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095-1CEF-47A0-9608-F174ED0B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DE2-0750-4594-8D7C-24908A20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EAC-D846-498F-A6EC-D1A2C9CD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4CF-E527-4EB1-8726-4819F04F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01DC-EF76-4741-AFFC-B3946A81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32FE-A1AD-4026-9565-C00DB1A7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4F47-5CF3-466B-BE87-64745B28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193E-D267-498E-9F7A-CEE7D64D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39E4-0A60-4DAE-888D-CAD4F4B7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1818-91A5-4446-AC51-8914B16D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D470-0D82-4953-8BB1-B89CBEB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69B-47E9-47F1-97C9-F98BE0F8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D322-6ED2-42B9-A8CB-085E64C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775B-EADF-465C-B416-47E9FEF9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1B4B-CA47-4611-A0BA-52BA53F6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47F8-0C05-4F1D-A645-E614E7E5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31B5-C09D-48F3-A930-F7039C5A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684-C5B2-4B5D-A6B2-5CA85D80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5B4-2F35-4070-B2EA-2B1B4FAE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E71-2FB9-459A-BEA7-ED32C31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1EF-961A-4630-A805-8860CAA8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37F-4587-4418-9F9E-4BC6340C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ECB-AF23-4985-A074-DBAF4F6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6FE-19B3-4340-8F26-F42E946F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588B-F62F-4E50-B9CA-748E4C3096CB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A45F-F1AE-4038-B0F5-164F3C0BA56D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F931-927B-45D5-9F3C-0C18A4E2E860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4AEA-EF3E-4E52-9873-060780120FF6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de.wikipedia.org/wiki/Bild:Anamorphic_lens_illustration_with_stretching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el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 um 1950 (Aufkommen des TV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s Publikum ansprechen  (Inhalte aus dem Leben der Jugendlich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Änderung der Filmmusik: neu Rock, Pop, 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erbesserung der Klangqualität in Ki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 auf Tonträger vermarkt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70er:  wieder synfonische Filmmusik mit grossen Orchest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80er:  Synthesizer-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rüher Ton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Zeitalter des Fernse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etosko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inématograp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appeu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ian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üst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hrmärk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Wind, Pferdegetrappel, Schritte, et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Nadel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thesi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599840"/>
            <a:ext cx="87152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  (1895 – ca. 1925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rühe Tonfilm  (ca. 1930 –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ilm im Zeitalter des Fernsehens  (ab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Erfindung des Kinetoskops  (Thomas A. Edison) und des Cinématographen (Louis und Auguste Lumiè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http://www.filmvorfuehrer.de/images/9/93/Edison_Kinetoscope.jpg"/>
          <p:cNvPicPr/>
          <p:nvPr/>
        </p:nvPicPr>
        <p:blipFill>
          <a:blip r:embed="rId3"/>
          <a:stretch/>
        </p:blipFill>
        <p:spPr>
          <a:xfrm>
            <a:off x="5857920" y="2786040"/>
            <a:ext cx="264780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www.victorian-cinema.net/cinematographwrench.jpg"/>
          <p:cNvPicPr/>
          <p:nvPr/>
        </p:nvPicPr>
        <p:blipFill>
          <a:blip r:embed="rId4"/>
          <a:stretch/>
        </p:blipFill>
        <p:spPr>
          <a:xfrm>
            <a:off x="544680" y="3286080"/>
            <a:ext cx="402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zeigten erstmals kurze Filme</a:t>
            </a:r>
            <a:br>
              <a:rPr sz="2800"/>
            </a:b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n Tappeuren live musikalisch unterma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 &amp; 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Möglichkeit, Tonaufnahmen zu mac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die Musik im Fil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Lautes Rattern des Projek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Düstere Stimmung erh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: Film als billige Massenvergnügu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03: durchschnittl. Filmlaufzeit: 9 Minu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10: Dokumentarfilme        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s zu 80 Musi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infonieorchester oder Kinoorgeln (Klangfarben, Geräuscheffek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ue She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späten Einsatz des Tonfilm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onwiedergabe schle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Konzentration auf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challplatte und Filmstreifen liefen auseinander          keine Synchronit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ntwicklung der Langspielplatte  (Nadeltonverfahr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 Lichttonverfahren: Bild- und Toninformation auf demselbem Streif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rteil beim Vervielfältigen des Fil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chronität bei Filmri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Eingekerbter Pfeil nach rechts 5"/>
          <p:cNvSpPr/>
          <p:nvPr/>
        </p:nvSpPr>
        <p:spPr>
          <a:xfrm>
            <a:off x="1928880" y="364320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Filmbild mit Lichttonspuren in Zackenschrif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210200"/>
            <a:ext cx="1936800" cy="1076040"/>
          </a:xfrm>
          <a:prstGeom prst="rect">
            <a:avLst/>
          </a:prstGeom>
          <a:ln w="0">
            <a:noFill/>
          </a:ln>
        </p:spPr>
      </p:pic>
      <p:sp>
        <p:nvSpPr>
          <p:cNvPr id="101" name="Eingekerbter Pfeil nach rechts 6"/>
          <p:cNvSpPr/>
          <p:nvPr/>
        </p:nvSpPr>
        <p:spPr>
          <a:xfrm>
            <a:off x="1928880" y="414324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993600" y="5715000"/>
            <a:ext cx="743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mpfindliche Filmstreifen (Verschmutzu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400" y="1599840"/>
            <a:ext cx="871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sante Verbreitung des Tonfi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nzahl Tonkinos: 500 auf 5000 (innert einem Jah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lektroindustrie in USA (v.a. in Hollywood) gewann grossen Einfluss (Patente für Tontechni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10:33Z</dcterms:created>
  <dc:creator>Pascal Hanselmann</dc:creator>
  <dc:description/>
  <dc:language>en-US</dc:language>
  <cp:lastModifiedBy>***</cp:lastModifiedBy>
  <dcterms:modified xsi:type="dcterms:W3CDTF">2011-06-23T14:34:23Z</dcterms:modified>
  <cp:revision>16</cp:revision>
  <dc:subject/>
  <dc:title>Geschichte der Filmmusik</dc:title>
</cp:coreProperties>
</file>